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6.png" ContentType="image/png"/>
  <Override PartName="/ppt/media/image13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3.png" ContentType="image/png"/>
  <Override PartName="/ppt/media/image33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media/image40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A05E5-D444-4275-9229-5053DEAD4A6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194C3-5113-4979-B648-F713A1ADA01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C3919-9C36-4F08-9C9C-6D0711FFE61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9880C-37DF-4A31-BE1E-381907D401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8000" y="141120"/>
            <a:ext cx="8840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413000"/>
            <a:ext cx="85341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920" y="3895560"/>
            <a:ext cx="85341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324B5-7B72-4F31-AFDD-FF791E7699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8000" y="141120"/>
            <a:ext cx="8840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413000"/>
            <a:ext cx="41644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7840" y="1413000"/>
            <a:ext cx="41644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895560"/>
            <a:ext cx="41644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7840" y="3895560"/>
            <a:ext cx="41644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0A450-3623-4649-8C22-8493C3A995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8000" y="141120"/>
            <a:ext cx="8840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413000"/>
            <a:ext cx="2747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90680" y="1413000"/>
            <a:ext cx="2747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6080" y="1413000"/>
            <a:ext cx="2747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920" y="3895560"/>
            <a:ext cx="2747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90680" y="3895560"/>
            <a:ext cx="2747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6080" y="3895560"/>
            <a:ext cx="2747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064D2-5687-4E43-99D9-08FCB6DEB3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93194-4FDA-4657-8C3D-DDFCB05A5ED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8000" y="141120"/>
            <a:ext cx="8840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4920" y="1413000"/>
            <a:ext cx="853416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A5ECA-D68F-432C-B3EF-9D55BEB809F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8000" y="141120"/>
            <a:ext cx="8840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413000"/>
            <a:ext cx="853416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7CA9E-D962-4A26-82E0-31F389944AB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8000" y="141120"/>
            <a:ext cx="8840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413000"/>
            <a:ext cx="41644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7840" y="1413000"/>
            <a:ext cx="41644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316F1-55ED-4760-8532-3DF7AD2EEF0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8000" y="141120"/>
            <a:ext cx="8840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75CBA-E3E4-4442-9FB9-5D3F0D43C4D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08000" y="141120"/>
            <a:ext cx="884088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F78E5-3394-48D1-AABC-160B4B56C1F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8000" y="141120"/>
            <a:ext cx="8840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413000"/>
            <a:ext cx="41644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7840" y="1413000"/>
            <a:ext cx="41644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4920" y="3895560"/>
            <a:ext cx="41644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31922-8B4E-40F9-9E10-86A6E914B1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8000" y="141120"/>
            <a:ext cx="8840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920" y="1413000"/>
            <a:ext cx="853416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99CD9-65FB-4395-A26C-FE39049B02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8000" y="141120"/>
            <a:ext cx="8840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413000"/>
            <a:ext cx="41644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7840" y="1413000"/>
            <a:ext cx="41644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7840" y="3895560"/>
            <a:ext cx="41644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AA4E1-94CE-4AFF-8D46-2B0C6CCAB2E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8000" y="141120"/>
            <a:ext cx="8840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413000"/>
            <a:ext cx="41644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7840" y="1413000"/>
            <a:ext cx="41644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920" y="3895560"/>
            <a:ext cx="85341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36AB3-0F62-45D2-9826-33F59E32AC1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8000" y="141120"/>
            <a:ext cx="8840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413000"/>
            <a:ext cx="85341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4920" y="3895560"/>
            <a:ext cx="85341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DA0A5-3844-49B6-B820-B0BD77D2523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8000" y="141120"/>
            <a:ext cx="8840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413000"/>
            <a:ext cx="41644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7840" y="1413000"/>
            <a:ext cx="41644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4920" y="3895560"/>
            <a:ext cx="41644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7840" y="3895560"/>
            <a:ext cx="41644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50A8D-DDCB-43D5-AE01-39F9E7DD97C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8000" y="141120"/>
            <a:ext cx="8840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1413000"/>
            <a:ext cx="2747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90680" y="1413000"/>
            <a:ext cx="2747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6080" y="1413000"/>
            <a:ext cx="2747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4920" y="3895560"/>
            <a:ext cx="2747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90680" y="3895560"/>
            <a:ext cx="2747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6080" y="3895560"/>
            <a:ext cx="2747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C2ECE-16B3-4F8B-9677-93EBF852F73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8000" y="141120"/>
            <a:ext cx="8840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04920" y="1413000"/>
            <a:ext cx="853416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8000" y="141120"/>
            <a:ext cx="8840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413000"/>
            <a:ext cx="853416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8000" y="141120"/>
            <a:ext cx="8840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413000"/>
            <a:ext cx="41644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7840" y="1413000"/>
            <a:ext cx="41644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8000" y="141120"/>
            <a:ext cx="8840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8000" y="141120"/>
            <a:ext cx="8840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413000"/>
            <a:ext cx="853416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7D875-F3A2-44ED-B63F-84574E9F479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08000" y="141120"/>
            <a:ext cx="884088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8000" y="141120"/>
            <a:ext cx="8840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413000"/>
            <a:ext cx="41644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7840" y="1413000"/>
            <a:ext cx="41644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04920" y="3895560"/>
            <a:ext cx="41644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8000" y="141120"/>
            <a:ext cx="8840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413000"/>
            <a:ext cx="41644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7840" y="1413000"/>
            <a:ext cx="41644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7840" y="3895560"/>
            <a:ext cx="41644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8000" y="141120"/>
            <a:ext cx="8840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413000"/>
            <a:ext cx="41644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7840" y="1413000"/>
            <a:ext cx="41644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04920" y="3895560"/>
            <a:ext cx="85341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8000" y="141120"/>
            <a:ext cx="8840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413000"/>
            <a:ext cx="85341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04920" y="3895560"/>
            <a:ext cx="85341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8000" y="141120"/>
            <a:ext cx="8840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413000"/>
            <a:ext cx="41644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7840" y="1413000"/>
            <a:ext cx="41644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4920" y="3895560"/>
            <a:ext cx="41644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7840" y="3895560"/>
            <a:ext cx="41644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8000" y="141120"/>
            <a:ext cx="8840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413000"/>
            <a:ext cx="2747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190680" y="1413000"/>
            <a:ext cx="2747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76080" y="1413000"/>
            <a:ext cx="2747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304920" y="3895560"/>
            <a:ext cx="2747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190680" y="3895560"/>
            <a:ext cx="2747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76080" y="3895560"/>
            <a:ext cx="2747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F0AB-5B56-4C15-A538-F6357AFFA59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8000" y="141120"/>
            <a:ext cx="8840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04920" y="1413000"/>
            <a:ext cx="853416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F094-54BD-416F-85C3-BB256F1F773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8000" y="141120"/>
            <a:ext cx="8840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413000"/>
            <a:ext cx="853416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D022-B9BD-41A9-9101-DFD7BA41B5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8000" y="141120"/>
            <a:ext cx="8840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413000"/>
            <a:ext cx="41644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7840" y="1413000"/>
            <a:ext cx="41644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6B9F7-D231-4DC1-B492-C9BD65A9A22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8000" y="141120"/>
            <a:ext cx="8840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413000"/>
            <a:ext cx="41644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7840" y="1413000"/>
            <a:ext cx="41644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E9FA-5B7D-4712-92E9-CCCAD9698CB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8000" y="141120"/>
            <a:ext cx="8840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9519-E5E5-4AFC-83F2-7FD921D7FA1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08000" y="141120"/>
            <a:ext cx="884088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F357-4A4D-4DD9-AA68-CC5CC99D52D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8000" y="141120"/>
            <a:ext cx="8840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413000"/>
            <a:ext cx="41644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7840" y="1413000"/>
            <a:ext cx="41644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04920" y="3895560"/>
            <a:ext cx="41644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A8FD-CF0E-4967-8C2F-AADCBD71D07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8000" y="141120"/>
            <a:ext cx="8840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413000"/>
            <a:ext cx="41644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7840" y="1413000"/>
            <a:ext cx="41644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7840" y="3895560"/>
            <a:ext cx="41644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C3F3-F42E-4F24-98D8-4BE0C29308A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8000" y="141120"/>
            <a:ext cx="8840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413000"/>
            <a:ext cx="41644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7840" y="1413000"/>
            <a:ext cx="41644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04920" y="3895560"/>
            <a:ext cx="85341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8F32-3AC5-4A48-8DAA-E5AFBC2C997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8000" y="141120"/>
            <a:ext cx="8840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413000"/>
            <a:ext cx="85341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04920" y="3895560"/>
            <a:ext cx="85341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39B4-8EB2-4AA5-B9C6-8BC8AB1796A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8000" y="141120"/>
            <a:ext cx="8840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413000"/>
            <a:ext cx="41644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7840" y="1413000"/>
            <a:ext cx="41644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304920" y="3895560"/>
            <a:ext cx="41644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7840" y="3895560"/>
            <a:ext cx="41644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B854-EB2F-45B8-907C-FF3A514A5F3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8000" y="141120"/>
            <a:ext cx="8840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413000"/>
            <a:ext cx="2747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190680" y="1413000"/>
            <a:ext cx="2747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76080" y="1413000"/>
            <a:ext cx="2747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304920" y="3895560"/>
            <a:ext cx="2747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190680" y="3895560"/>
            <a:ext cx="2747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76080" y="3895560"/>
            <a:ext cx="2747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9BBA-76EB-40A8-A3F2-2E6B3779043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992EA3-B9D2-4796-B69B-E29D144A39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8000" y="141120"/>
            <a:ext cx="8840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D4766-2658-4B2D-B970-B5CAF871FEA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8000" y="141120"/>
            <a:ext cx="8840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304920" y="1413000"/>
            <a:ext cx="853416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444FAD-8247-49CE-86F4-9B72BE727891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8000" y="141120"/>
            <a:ext cx="8840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413000"/>
            <a:ext cx="853416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B88142-04DD-40A7-B4D7-807D270F1A4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8000" y="141120"/>
            <a:ext cx="8840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413000"/>
            <a:ext cx="41644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7840" y="1413000"/>
            <a:ext cx="41644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D22A30-FA3E-4568-904F-3218CB7E24E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8000" y="141120"/>
            <a:ext cx="8840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35601F-9AE9-4FA3-87DC-CD832EC8694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108000" y="141120"/>
            <a:ext cx="884088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4E7295-D887-429F-9EEF-3402516F605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8000" y="141120"/>
            <a:ext cx="8840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1413000"/>
            <a:ext cx="41644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7840" y="1413000"/>
            <a:ext cx="41644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04920" y="3895560"/>
            <a:ext cx="41644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4D393C-BBDE-46E3-9502-CEC83CC8FEC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8000" y="141120"/>
            <a:ext cx="8840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413000"/>
            <a:ext cx="41644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7840" y="1413000"/>
            <a:ext cx="41644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7840" y="3895560"/>
            <a:ext cx="41644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EB7026-89EE-4861-9EC2-58A7E530AE8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8000" y="141120"/>
            <a:ext cx="8840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413000"/>
            <a:ext cx="41644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7840" y="1413000"/>
            <a:ext cx="41644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304920" y="3895560"/>
            <a:ext cx="85341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613FFA-1F21-4BBA-A1CD-2030D1581F5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8000" y="141120"/>
            <a:ext cx="8840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413000"/>
            <a:ext cx="85341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04920" y="3895560"/>
            <a:ext cx="85341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D38AA0-AFD2-43B0-AC77-803ACCA3574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8000" y="141120"/>
            <a:ext cx="8840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413000"/>
            <a:ext cx="41644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7840" y="1413000"/>
            <a:ext cx="41644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304920" y="3895560"/>
            <a:ext cx="41644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7840" y="3895560"/>
            <a:ext cx="41644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38D81C-3BAC-4628-AB59-A28D06583B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8000" y="141120"/>
            <a:ext cx="884088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1B21F-227A-4B28-8D91-AC278155408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8000" y="141120"/>
            <a:ext cx="8840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413000"/>
            <a:ext cx="2747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190680" y="1413000"/>
            <a:ext cx="2747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76080" y="1413000"/>
            <a:ext cx="2747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304920" y="3895560"/>
            <a:ext cx="2747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190680" y="3895560"/>
            <a:ext cx="2747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76080" y="3895560"/>
            <a:ext cx="2747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10D2A4-3E14-4128-A1C6-9589D1A4BC9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09A0C4-DBCB-4112-8B01-B16F812CA3D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8000" y="141120"/>
            <a:ext cx="8840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304920" y="1413000"/>
            <a:ext cx="853416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7B035E-0AAC-476B-8F9A-15452630E40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8000" y="141120"/>
            <a:ext cx="8840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920" y="1413000"/>
            <a:ext cx="853416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0263CE-C1A7-474D-8049-2C1718B4E99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8000" y="141120"/>
            <a:ext cx="8840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413000"/>
            <a:ext cx="41644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7840" y="1413000"/>
            <a:ext cx="41644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DB7F9F-AEBF-4C23-972E-81A12ADA987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8000" y="141120"/>
            <a:ext cx="8840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E17B54-FC53-4C8E-8187-FCA895A603F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108000" y="141120"/>
            <a:ext cx="884088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2E7DF0-A75B-4030-9B6A-EE6221D18D7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8000" y="141120"/>
            <a:ext cx="8840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920" y="1413000"/>
            <a:ext cx="41644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7840" y="1413000"/>
            <a:ext cx="41644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304920" y="3895560"/>
            <a:ext cx="41644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576A38-EC62-4BC5-B960-C1B99C3990D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8000" y="141120"/>
            <a:ext cx="8840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413000"/>
            <a:ext cx="41644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7840" y="1413000"/>
            <a:ext cx="41644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7840" y="3895560"/>
            <a:ext cx="41644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08F62C-AA0C-4609-B319-8100F4858F5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8000" y="141120"/>
            <a:ext cx="8840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413000"/>
            <a:ext cx="41644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7840" y="1413000"/>
            <a:ext cx="41644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4920" y="3895560"/>
            <a:ext cx="85341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B54A9F-B14C-49AC-AE94-5110D740F6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8000" y="141120"/>
            <a:ext cx="8840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413000"/>
            <a:ext cx="41644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7840" y="1413000"/>
            <a:ext cx="41644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920" y="3895560"/>
            <a:ext cx="41644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F18DF-4FA7-459C-BA68-5E58BF3705F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8000" y="141120"/>
            <a:ext cx="8840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413000"/>
            <a:ext cx="85341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04920" y="3895560"/>
            <a:ext cx="85341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A23ED1-1EDF-42E3-B6A3-37AB5E2D5ED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8000" y="141120"/>
            <a:ext cx="8840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413000"/>
            <a:ext cx="41644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7840" y="1413000"/>
            <a:ext cx="41644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304920" y="3895560"/>
            <a:ext cx="41644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7840" y="3895560"/>
            <a:ext cx="41644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449840-1B45-48B7-8B1F-1419A3C0AF9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8000" y="141120"/>
            <a:ext cx="8840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413000"/>
            <a:ext cx="2747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190680" y="1413000"/>
            <a:ext cx="2747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76080" y="1413000"/>
            <a:ext cx="2747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304920" y="3895560"/>
            <a:ext cx="2747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190680" y="3895560"/>
            <a:ext cx="2747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76080" y="3895560"/>
            <a:ext cx="2747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D1448D-A6CF-40F6-A1FA-891EFF73CA6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B2BDF-65E2-4860-AEE8-18BC9689F13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8000" y="141120"/>
            <a:ext cx="8840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304920" y="1413000"/>
            <a:ext cx="853416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798B2-0F95-4493-B7E5-DB81B55C69E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8000" y="141120"/>
            <a:ext cx="8840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1413000"/>
            <a:ext cx="853416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839F3-6B44-48C1-A84E-865F03794A8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8000" y="141120"/>
            <a:ext cx="8840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920" y="1413000"/>
            <a:ext cx="41644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7840" y="1413000"/>
            <a:ext cx="41644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915E1-1AE8-444E-9A68-88901B5A5898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8000" y="141120"/>
            <a:ext cx="8840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83B98-CB1C-4915-9397-76A4BEEAB51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108000" y="141120"/>
            <a:ext cx="884088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2F747-39F0-461E-9780-D07200CF92A1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8000" y="141120"/>
            <a:ext cx="8840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1413000"/>
            <a:ext cx="41644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7840" y="1413000"/>
            <a:ext cx="41644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304920" y="3895560"/>
            <a:ext cx="41644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E01ED-AAF1-43D8-BDE7-D2704E4CF9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8000" y="141120"/>
            <a:ext cx="8840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413000"/>
            <a:ext cx="41644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7840" y="1413000"/>
            <a:ext cx="41644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7840" y="3895560"/>
            <a:ext cx="41644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02F1D-EB69-4FF0-ABF1-6F7A5579D09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8000" y="141120"/>
            <a:ext cx="8840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4920" y="1413000"/>
            <a:ext cx="41644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7840" y="1413000"/>
            <a:ext cx="41644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7840" y="3895560"/>
            <a:ext cx="41644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7243B-7013-43DA-B3A3-0F939E46A0A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8000" y="141120"/>
            <a:ext cx="8840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413000"/>
            <a:ext cx="41644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7840" y="1413000"/>
            <a:ext cx="41644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04920" y="3895560"/>
            <a:ext cx="85341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17928-9DA1-4287-AE6D-D68EC26B8B0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8000" y="141120"/>
            <a:ext cx="8840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413000"/>
            <a:ext cx="85341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04920" y="3895560"/>
            <a:ext cx="85341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07684-2367-4B1D-95F3-AE52B744E8E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8000" y="141120"/>
            <a:ext cx="8840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04920" y="1413000"/>
            <a:ext cx="41644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7840" y="1413000"/>
            <a:ext cx="41644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304920" y="3895560"/>
            <a:ext cx="41644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7840" y="3895560"/>
            <a:ext cx="41644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55723-CBE7-4795-916A-3F51C24A2C8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8000" y="141120"/>
            <a:ext cx="8840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413000"/>
            <a:ext cx="2747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190680" y="1413000"/>
            <a:ext cx="2747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76080" y="1413000"/>
            <a:ext cx="2747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304920" y="3895560"/>
            <a:ext cx="2747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190680" y="3895560"/>
            <a:ext cx="2747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76080" y="3895560"/>
            <a:ext cx="2747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AE007-3061-4D25-851E-D7AEEE5CC6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8000" y="141120"/>
            <a:ext cx="8840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413000"/>
            <a:ext cx="41644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7840" y="1413000"/>
            <a:ext cx="41644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920" y="3895560"/>
            <a:ext cx="85341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26B28-1A8B-47E6-A2F7-FFF3F433FE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amax_ppt_in"/>
          <p:cNvPicPr/>
          <p:nvPr/>
        </p:nvPicPr>
        <p:blipFill>
          <a:blip r:embed="rId2"/>
          <a:stretch/>
        </p:blipFill>
        <p:spPr>
          <a:xfrm>
            <a:off x="-9360" y="-4680"/>
            <a:ext cx="9162720" cy="6867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04920" y="1413000"/>
            <a:ext cx="853416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7d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87d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87d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87d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87d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08000" y="141120"/>
            <a:ext cx="8840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0" y="6562800"/>
            <a:ext cx="2124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BF3D4-5982-43D3-83D6-DE91AB03CE72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Oval 12"/>
          <p:cNvSpPr/>
          <p:nvPr/>
        </p:nvSpPr>
        <p:spPr>
          <a:xfrm>
            <a:off x="6097680" y="6327720"/>
            <a:ext cx="1295280" cy="433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6838920" y="6419880"/>
            <a:ext cx="226692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0" descr=""/>
          <p:cNvPicPr/>
          <p:nvPr/>
        </p:nvPicPr>
        <p:blipFill>
          <a:blip r:embed="rId3"/>
          <a:stretch/>
        </p:blipFill>
        <p:spPr>
          <a:xfrm>
            <a:off x="7221600" y="6305400"/>
            <a:ext cx="1501560" cy="517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C:\work\winmail 开发\微信平台\订阅号\Winmail\QQ截图20161209090037.jpg"/>
          <p:cNvPicPr/>
          <p:nvPr/>
        </p:nvPicPr>
        <p:blipFill>
          <a:blip r:embed="rId3"/>
          <a:stretch/>
        </p:blipFill>
        <p:spPr>
          <a:xfrm>
            <a:off x="0" y="1197000"/>
            <a:ext cx="4199040" cy="781200"/>
          </a:xfrm>
          <a:prstGeom prst="rect">
            <a:avLst/>
          </a:prstGeom>
          <a:ln w="0">
            <a:noFill/>
          </a:ln>
        </p:spPr>
      </p:pic>
      <p:sp>
        <p:nvSpPr>
          <p:cNvPr id="45" name="TextBox 10"/>
          <p:cNvSpPr/>
          <p:nvPr/>
        </p:nvSpPr>
        <p:spPr>
          <a:xfrm>
            <a:off x="5314320" y="597996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轻松架设邮件系统，随时随地收发邮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304920" y="1413000"/>
            <a:ext cx="853416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7d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87d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87d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87d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87d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108000" y="141120"/>
            <a:ext cx="8840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49200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81575-6C20-43BE-ACD0-A2AE14BA96BC}" type="slidenum">
              <a:rPr b="0" lang="zh-CN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1" descr="amax_ppt_in"/>
          <p:cNvPicPr/>
          <p:nvPr/>
        </p:nvPicPr>
        <p:blipFill>
          <a:blip r:embed="rId2"/>
          <a:stretch/>
        </p:blipFill>
        <p:spPr>
          <a:xfrm>
            <a:off x="-9360" y="-4680"/>
            <a:ext cx="9162720" cy="6867360"/>
          </a:xfrm>
          <a:prstGeom prst="rect">
            <a:avLst/>
          </a:prstGeom>
          <a:ln w="0">
            <a:noFill/>
          </a:ln>
        </p:spPr>
      </p:pic>
      <p:sp>
        <p:nvSpPr>
          <p:cNvPr id="86" name="Oval 12"/>
          <p:cNvSpPr/>
          <p:nvPr/>
        </p:nvSpPr>
        <p:spPr>
          <a:xfrm>
            <a:off x="6097680" y="6327720"/>
            <a:ext cx="1295280" cy="433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4"/>
          <p:cNvSpPr/>
          <p:nvPr/>
        </p:nvSpPr>
        <p:spPr>
          <a:xfrm>
            <a:off x="6838920" y="6419880"/>
            <a:ext cx="226692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0" descr=""/>
          <p:cNvPicPr/>
          <p:nvPr/>
        </p:nvPicPr>
        <p:blipFill>
          <a:blip r:embed="rId3"/>
          <a:stretch/>
        </p:blipFill>
        <p:spPr>
          <a:xfrm>
            <a:off x="7221600" y="6305400"/>
            <a:ext cx="1501560" cy="5176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"/>
          <p:cNvPicPr/>
          <p:nvPr/>
        </p:nvPicPr>
        <p:blipFill>
          <a:blip r:embed="rId4"/>
          <a:stretch/>
        </p:blipFill>
        <p:spPr>
          <a:xfrm>
            <a:off x="58680" y="260280"/>
            <a:ext cx="1560600" cy="3999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304920" y="1413000"/>
            <a:ext cx="853416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7d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87d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87d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87d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87d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108000" y="141120"/>
            <a:ext cx="8840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1" descr="amax_ppt_in"/>
          <p:cNvPicPr/>
          <p:nvPr/>
        </p:nvPicPr>
        <p:blipFill>
          <a:blip r:embed="rId2"/>
          <a:stretch/>
        </p:blipFill>
        <p:spPr>
          <a:xfrm>
            <a:off x="-9360" y="-4680"/>
            <a:ext cx="9162720" cy="6867360"/>
          </a:xfrm>
          <a:prstGeom prst="rect">
            <a:avLst/>
          </a:prstGeom>
          <a:ln w="0">
            <a:noFill/>
          </a:ln>
        </p:spPr>
      </p:pic>
      <p:sp>
        <p:nvSpPr>
          <p:cNvPr id="129" name="Oval 12"/>
          <p:cNvSpPr/>
          <p:nvPr/>
        </p:nvSpPr>
        <p:spPr>
          <a:xfrm>
            <a:off x="6097680" y="6327720"/>
            <a:ext cx="1295280" cy="433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4"/>
          <p:cNvSpPr/>
          <p:nvPr/>
        </p:nvSpPr>
        <p:spPr>
          <a:xfrm>
            <a:off x="6838920" y="6419880"/>
            <a:ext cx="226692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0" descr=""/>
          <p:cNvPicPr/>
          <p:nvPr/>
        </p:nvPicPr>
        <p:blipFill>
          <a:blip r:embed="rId3"/>
          <a:stretch/>
        </p:blipFill>
        <p:spPr>
          <a:xfrm>
            <a:off x="7221600" y="6305400"/>
            <a:ext cx="1501560" cy="5176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"/>
          <p:cNvPicPr/>
          <p:nvPr/>
        </p:nvPicPr>
        <p:blipFill>
          <a:blip r:embed="rId4"/>
          <a:stretch/>
        </p:blipFill>
        <p:spPr>
          <a:xfrm>
            <a:off x="58680" y="260280"/>
            <a:ext cx="1560600" cy="39996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304920" y="1413000"/>
            <a:ext cx="853416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7d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87d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87d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87d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87d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108000" y="141120"/>
            <a:ext cx="8840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Num" idx="3"/>
          </p:nvPr>
        </p:nvSpPr>
        <p:spPr>
          <a:xfrm>
            <a:off x="0" y="6562800"/>
            <a:ext cx="2124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459FA-7AD5-46EA-A57D-205D36561879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11" descr="amax_ppt_in"/>
          <p:cNvPicPr/>
          <p:nvPr/>
        </p:nvPicPr>
        <p:blipFill>
          <a:blip r:embed="rId2"/>
          <a:stretch/>
        </p:blipFill>
        <p:spPr>
          <a:xfrm>
            <a:off x="-9360" y="-4680"/>
            <a:ext cx="9162720" cy="6867360"/>
          </a:xfrm>
          <a:prstGeom prst="rect">
            <a:avLst/>
          </a:prstGeom>
          <a:ln w="0">
            <a:noFill/>
          </a:ln>
        </p:spPr>
      </p:pic>
      <p:sp>
        <p:nvSpPr>
          <p:cNvPr id="173" name="Oval 12"/>
          <p:cNvSpPr/>
          <p:nvPr/>
        </p:nvSpPr>
        <p:spPr>
          <a:xfrm>
            <a:off x="6097680" y="6327720"/>
            <a:ext cx="1295280" cy="433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4"/>
          <p:cNvSpPr/>
          <p:nvPr/>
        </p:nvSpPr>
        <p:spPr>
          <a:xfrm>
            <a:off x="6838920" y="6419880"/>
            <a:ext cx="226692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0" descr=""/>
          <p:cNvPicPr/>
          <p:nvPr/>
        </p:nvPicPr>
        <p:blipFill>
          <a:blip r:embed="rId3"/>
          <a:stretch/>
        </p:blipFill>
        <p:spPr>
          <a:xfrm>
            <a:off x="7221600" y="6305400"/>
            <a:ext cx="1501560" cy="5176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"/>
          <p:cNvPicPr/>
          <p:nvPr/>
        </p:nvPicPr>
        <p:blipFill>
          <a:blip r:embed="rId4"/>
          <a:stretch/>
        </p:blipFill>
        <p:spPr>
          <a:xfrm>
            <a:off x="58680" y="260280"/>
            <a:ext cx="1560600" cy="39996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304920" y="1413000"/>
            <a:ext cx="853416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7d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87d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87d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87d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87d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108000" y="141120"/>
            <a:ext cx="8840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sldNum" idx="4"/>
          </p:nvPr>
        </p:nvSpPr>
        <p:spPr>
          <a:xfrm>
            <a:off x="0" y="6562800"/>
            <a:ext cx="2124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EF23D-916C-436F-BED0-C425D542679B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11" descr="amax_ppt_in"/>
          <p:cNvPicPr/>
          <p:nvPr/>
        </p:nvPicPr>
        <p:blipFill>
          <a:blip r:embed="rId2"/>
          <a:stretch/>
        </p:blipFill>
        <p:spPr>
          <a:xfrm>
            <a:off x="-9360" y="-4680"/>
            <a:ext cx="9162720" cy="6867360"/>
          </a:xfrm>
          <a:prstGeom prst="rect">
            <a:avLst/>
          </a:prstGeom>
          <a:ln w="0">
            <a:noFill/>
          </a:ln>
        </p:spPr>
      </p:pic>
      <p:sp>
        <p:nvSpPr>
          <p:cNvPr id="217" name="Oval 12"/>
          <p:cNvSpPr/>
          <p:nvPr/>
        </p:nvSpPr>
        <p:spPr>
          <a:xfrm>
            <a:off x="6097680" y="6327720"/>
            <a:ext cx="1295280" cy="433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4"/>
          <p:cNvSpPr/>
          <p:nvPr/>
        </p:nvSpPr>
        <p:spPr>
          <a:xfrm>
            <a:off x="6838920" y="6419880"/>
            <a:ext cx="226692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10" descr=""/>
          <p:cNvPicPr/>
          <p:nvPr/>
        </p:nvPicPr>
        <p:blipFill>
          <a:blip r:embed="rId3"/>
          <a:stretch/>
        </p:blipFill>
        <p:spPr>
          <a:xfrm>
            <a:off x="7221600" y="6305400"/>
            <a:ext cx="1501560" cy="5176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"/>
          <p:cNvPicPr/>
          <p:nvPr/>
        </p:nvPicPr>
        <p:blipFill>
          <a:blip r:embed="rId4"/>
          <a:stretch/>
        </p:blipFill>
        <p:spPr>
          <a:xfrm>
            <a:off x="58680" y="260280"/>
            <a:ext cx="1560600" cy="39996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304920" y="1413000"/>
            <a:ext cx="853416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7d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87d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87d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87d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87d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title"/>
          </p:nvPr>
        </p:nvSpPr>
        <p:spPr>
          <a:xfrm>
            <a:off x="108000" y="141120"/>
            <a:ext cx="8840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Num" idx="5"/>
          </p:nvPr>
        </p:nvSpPr>
        <p:spPr>
          <a:xfrm>
            <a:off x="0" y="6562800"/>
            <a:ext cx="2124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9637F-96DE-4D4B-A9BF-21973299F9FB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11" descr="amax_ppt_in"/>
          <p:cNvPicPr/>
          <p:nvPr/>
        </p:nvPicPr>
        <p:blipFill>
          <a:blip r:embed="rId2"/>
          <a:stretch/>
        </p:blipFill>
        <p:spPr>
          <a:xfrm>
            <a:off x="-9360" y="-4680"/>
            <a:ext cx="9162720" cy="6867360"/>
          </a:xfrm>
          <a:prstGeom prst="rect">
            <a:avLst/>
          </a:prstGeom>
          <a:ln w="0">
            <a:noFill/>
          </a:ln>
        </p:spPr>
      </p:pic>
      <p:sp>
        <p:nvSpPr>
          <p:cNvPr id="261" name="Oval 12"/>
          <p:cNvSpPr/>
          <p:nvPr/>
        </p:nvSpPr>
        <p:spPr>
          <a:xfrm>
            <a:off x="6097680" y="6327720"/>
            <a:ext cx="1295280" cy="433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4"/>
          <p:cNvSpPr/>
          <p:nvPr/>
        </p:nvSpPr>
        <p:spPr>
          <a:xfrm>
            <a:off x="6838920" y="6419880"/>
            <a:ext cx="226692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10" descr=""/>
          <p:cNvPicPr/>
          <p:nvPr/>
        </p:nvPicPr>
        <p:blipFill>
          <a:blip r:embed="rId3"/>
          <a:stretch/>
        </p:blipFill>
        <p:spPr>
          <a:xfrm>
            <a:off x="7221600" y="6305400"/>
            <a:ext cx="1501560" cy="5176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"/>
          <p:cNvPicPr/>
          <p:nvPr/>
        </p:nvPicPr>
        <p:blipFill>
          <a:blip r:embed="rId4"/>
          <a:stretch/>
        </p:blipFill>
        <p:spPr>
          <a:xfrm>
            <a:off x="58680" y="260280"/>
            <a:ext cx="1560600" cy="39996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body"/>
          </p:nvPr>
        </p:nvSpPr>
        <p:spPr>
          <a:xfrm>
            <a:off x="304920" y="1413000"/>
            <a:ext cx="853416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7d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87d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87d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87d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87d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title"/>
          </p:nvPr>
        </p:nvSpPr>
        <p:spPr>
          <a:xfrm>
            <a:off x="108000" y="141120"/>
            <a:ext cx="8840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sldNum" idx="6"/>
          </p:nvPr>
        </p:nvSpPr>
        <p:spPr>
          <a:xfrm>
            <a:off x="0" y="6562800"/>
            <a:ext cx="2124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756D7-C557-4F5F-BAA1-A863DC69D70F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winmail.cn/success.php" TargetMode="External"/><Relationship Id="rId2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s://www.winmail.cn/edition.php" TargetMode="External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79280" y="3212640"/>
            <a:ext cx="87854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INMAIL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邮件系统介绍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TextBox 1"/>
          <p:cNvSpPr/>
          <p:nvPr/>
        </p:nvSpPr>
        <p:spPr>
          <a:xfrm>
            <a:off x="5347800" y="5018040"/>
            <a:ext cx="230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2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年 苏州华兆科技有限公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3"/>
          <p:cNvSpPr/>
          <p:nvPr/>
        </p:nvSpPr>
        <p:spPr>
          <a:xfrm>
            <a:off x="304920" y="928800"/>
            <a:ext cx="883908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3080" indent="-343080">
              <a:lnSpc>
                <a:spcPct val="100000"/>
              </a:lnSpc>
              <a:spcBef>
                <a:spcPts val="499"/>
              </a:spcBef>
              <a:buClr>
                <a:srgbClr val="0087d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专用手机邮件客户端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AP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00"/>
              </a:spcBef>
              <a:buClr>
                <a:srgbClr val="0087d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专用手机邮件客户端，支持安卓手机、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iPhone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iPad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00"/>
              </a:spcBef>
              <a:buClr>
                <a:srgbClr val="0087d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可支持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s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，提供收发邮件、新邮件消息通知、个人地址簿、公共地址簿等功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87d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标题 1"/>
          <p:cNvSpPr/>
          <p:nvPr/>
        </p:nvSpPr>
        <p:spPr>
          <a:xfrm>
            <a:off x="2714760" y="141120"/>
            <a:ext cx="6234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系统主要功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2" descr=""/>
          <p:cNvPicPr/>
          <p:nvPr/>
        </p:nvPicPr>
        <p:blipFill>
          <a:blip r:embed="rId1"/>
          <a:stretch/>
        </p:blipFill>
        <p:spPr>
          <a:xfrm>
            <a:off x="755640" y="2133720"/>
            <a:ext cx="2178000" cy="386064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3" descr=""/>
          <p:cNvPicPr/>
          <p:nvPr/>
        </p:nvPicPr>
        <p:blipFill>
          <a:blip r:embed="rId2"/>
          <a:stretch/>
        </p:blipFill>
        <p:spPr>
          <a:xfrm>
            <a:off x="3193920" y="2133720"/>
            <a:ext cx="2241720" cy="388116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7" descr=""/>
          <p:cNvPicPr/>
          <p:nvPr/>
        </p:nvPicPr>
        <p:blipFill>
          <a:blip r:embed="rId3"/>
          <a:stretch/>
        </p:blipFill>
        <p:spPr>
          <a:xfrm>
            <a:off x="5651640" y="2244600"/>
            <a:ext cx="1857240" cy="3718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304560" y="928440"/>
            <a:ext cx="8839080" cy="151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87d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网络助理功能</a:t>
            </a:r>
            <a:endParaRPr b="1" lang="en-US" sz="2000" spc="-1" strike="noStrike">
              <a:solidFill>
                <a:srgbClr val="6666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87d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网络磁盘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-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提供文件的存储、分类、访问、共享等管理功能，支持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FTP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客户端工具直接上传和下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87d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网络行事历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-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对正在进行事件及未来任务进行安排，可以邮件提醒，提高执行效率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87d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网络记事本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-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方便的记录自己的工作摘要、心情日记、读书笔记等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338" name="标题 1"/>
          <p:cNvSpPr/>
          <p:nvPr/>
        </p:nvSpPr>
        <p:spPr>
          <a:xfrm>
            <a:off x="2714760" y="141120"/>
            <a:ext cx="6234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系统主要功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5" descr=""/>
          <p:cNvPicPr/>
          <p:nvPr/>
        </p:nvPicPr>
        <p:blipFill>
          <a:blip r:embed="rId1"/>
          <a:stretch/>
        </p:blipFill>
        <p:spPr>
          <a:xfrm>
            <a:off x="1116000" y="2637000"/>
            <a:ext cx="6769080" cy="35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304920" y="928800"/>
            <a:ext cx="853416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87d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邮件签核与监控</a:t>
            </a:r>
            <a:endParaRPr b="1" lang="en-US" sz="2000" spc="-1" strike="noStrike">
              <a:solidFill>
                <a:srgbClr val="6666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87d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邮件签核：管理员可以限制一些用户发信是否要经过指定管理者签核。签核管理者可以允许和拒绝需要签核的用户发送邮件。可以设置要签核邮件的条件，满足条件的邮件才签核。支持收件签核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87d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邮件监控：管理员对一些用户接收和发送的邮件进行监控，自动拷贝一份给管理者。可以设置要监控邮件的条件，满足条件的邮件才监控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66666"/>
              </a:solidFill>
              <a:latin typeface="Verdana"/>
            </a:endParaRPr>
          </a:p>
        </p:txBody>
      </p:sp>
      <p:pic>
        <p:nvPicPr>
          <p:cNvPr id="341" name="Picture 7" descr=""/>
          <p:cNvPicPr/>
          <p:nvPr/>
        </p:nvPicPr>
        <p:blipFill>
          <a:blip r:embed="rId1"/>
          <a:stretch/>
        </p:blipFill>
        <p:spPr>
          <a:xfrm>
            <a:off x="71280" y="3224160"/>
            <a:ext cx="4143600" cy="227664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4" descr="monitor"/>
          <p:cNvPicPr/>
          <p:nvPr/>
        </p:nvPicPr>
        <p:blipFill>
          <a:blip r:embed="rId2"/>
          <a:stretch/>
        </p:blipFill>
        <p:spPr>
          <a:xfrm>
            <a:off x="4214880" y="3214800"/>
            <a:ext cx="4664160" cy="2214360"/>
          </a:xfrm>
          <a:prstGeom prst="rect">
            <a:avLst/>
          </a:prstGeom>
          <a:ln w="0">
            <a:noFill/>
          </a:ln>
        </p:spPr>
      </p:pic>
      <p:sp>
        <p:nvSpPr>
          <p:cNvPr id="343" name="TextBox 8"/>
          <p:cNvSpPr/>
          <p:nvPr/>
        </p:nvSpPr>
        <p:spPr>
          <a:xfrm>
            <a:off x="1857240" y="5500800"/>
            <a:ext cx="135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签核流程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9"/>
          <p:cNvSpPr/>
          <p:nvPr/>
        </p:nvSpPr>
        <p:spPr>
          <a:xfrm>
            <a:off x="6500880" y="5500800"/>
            <a:ext cx="13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监控流程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标题 1"/>
          <p:cNvSpPr/>
          <p:nvPr/>
        </p:nvSpPr>
        <p:spPr>
          <a:xfrm>
            <a:off x="2714760" y="141120"/>
            <a:ext cx="6234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系统主要功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3"/>
          <p:cNvSpPr/>
          <p:nvPr/>
        </p:nvSpPr>
        <p:spPr>
          <a:xfrm>
            <a:off x="304920" y="928800"/>
            <a:ext cx="8534160" cy="40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87d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严谨的账号和权限管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87d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用户邮箱空间和网络磁盘空间的限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87d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限制用户某些功能的使用权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87d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限制用户发送和接收邮件权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87d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限制用户网络访问权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87d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用户收发流量控制和流量统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87d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系统管理员和域管理员分级管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87d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标题 1"/>
          <p:cNvSpPr/>
          <p:nvPr/>
        </p:nvSpPr>
        <p:spPr>
          <a:xfrm>
            <a:off x="2714760" y="141120"/>
            <a:ext cx="6234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系统主要功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5" descr=""/>
          <p:cNvPicPr/>
          <p:nvPr/>
        </p:nvPicPr>
        <p:blipFill>
          <a:blip r:embed="rId1"/>
          <a:stretch/>
        </p:blipFill>
        <p:spPr>
          <a:xfrm>
            <a:off x="4140360" y="1844640"/>
            <a:ext cx="446724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3"/>
          <p:cNvSpPr/>
          <p:nvPr/>
        </p:nvSpPr>
        <p:spPr>
          <a:xfrm>
            <a:off x="285840" y="928800"/>
            <a:ext cx="8534160" cy="40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87d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系统邮件归档和查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87d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系统可以设置实时归档每一封收发的邮件，可以归档全部用户或者指定用户；用户和管理员可在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Web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上查询和恢复系统归档邮件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标题 1"/>
          <p:cNvSpPr/>
          <p:nvPr/>
        </p:nvSpPr>
        <p:spPr>
          <a:xfrm>
            <a:off x="2714760" y="141120"/>
            <a:ext cx="6234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系统主要功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6" descr=""/>
          <p:cNvPicPr/>
          <p:nvPr/>
        </p:nvPicPr>
        <p:blipFill>
          <a:blip r:embed="rId1"/>
          <a:stretch/>
        </p:blipFill>
        <p:spPr>
          <a:xfrm>
            <a:off x="638280" y="1844640"/>
            <a:ext cx="4152960" cy="44290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7" descr=""/>
          <p:cNvPicPr/>
          <p:nvPr/>
        </p:nvPicPr>
        <p:blipFill>
          <a:blip r:embed="rId2"/>
          <a:stretch/>
        </p:blipFill>
        <p:spPr>
          <a:xfrm>
            <a:off x="3622680" y="2708280"/>
            <a:ext cx="552132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3"/>
          <p:cNvSpPr/>
          <p:nvPr/>
        </p:nvSpPr>
        <p:spPr>
          <a:xfrm>
            <a:off x="285840" y="928800"/>
            <a:ext cx="8534160" cy="40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87d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系统备份和恢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87d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支持定时备份系统数据库和用户邮箱中的所有邮件，系统出现问题可以恢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标题 1"/>
          <p:cNvSpPr/>
          <p:nvPr/>
        </p:nvSpPr>
        <p:spPr>
          <a:xfrm>
            <a:off x="2714760" y="141120"/>
            <a:ext cx="6234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系统主要功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6" descr=""/>
          <p:cNvPicPr/>
          <p:nvPr/>
        </p:nvPicPr>
        <p:blipFill>
          <a:blip r:embed="rId1"/>
          <a:stretch/>
        </p:blipFill>
        <p:spPr>
          <a:xfrm>
            <a:off x="1476360" y="1916280"/>
            <a:ext cx="4989600" cy="39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3"/>
          <p:cNvSpPr/>
          <p:nvPr/>
        </p:nvSpPr>
        <p:spPr>
          <a:xfrm>
            <a:off x="285840" y="928800"/>
            <a:ext cx="8534160" cy="40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87d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安装维护管理容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87d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提供快速设置向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87d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支持远程管理和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Web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管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87d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监控运行状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87d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丰富的日志记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87d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支持计划任务，可以设置执行时间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87d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系统流量和用户流量统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87d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标题 1"/>
          <p:cNvSpPr/>
          <p:nvPr/>
        </p:nvSpPr>
        <p:spPr>
          <a:xfrm>
            <a:off x="2714760" y="141120"/>
            <a:ext cx="6234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系统主要功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8" descr=""/>
          <p:cNvPicPr/>
          <p:nvPr/>
        </p:nvPicPr>
        <p:blipFill>
          <a:blip r:embed="rId1"/>
          <a:stretch/>
        </p:blipFill>
        <p:spPr>
          <a:xfrm>
            <a:off x="6026040" y="928800"/>
            <a:ext cx="1570320" cy="5119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59" name="Picture 6" descr=""/>
          <p:cNvPicPr/>
          <p:nvPr/>
        </p:nvPicPr>
        <p:blipFill>
          <a:blip r:embed="rId2"/>
          <a:stretch/>
        </p:blipFill>
        <p:spPr>
          <a:xfrm>
            <a:off x="2195640" y="3141720"/>
            <a:ext cx="2528640" cy="31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714400" y="141120"/>
            <a:ext cx="62341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特色功能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Rectangle 1027"/>
          <p:cNvSpPr/>
          <p:nvPr/>
        </p:nvSpPr>
        <p:spPr>
          <a:xfrm>
            <a:off x="142920" y="1071720"/>
            <a:ext cx="831852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除完备的常规邮件系统功能外，本产品实用的特色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80000"/>
              </a:lnSpc>
              <a:spcBef>
                <a:spcPts val="601"/>
              </a:spcBef>
              <a:buClr>
                <a:srgbClr val="0087da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80000"/>
              </a:lnSpc>
              <a:spcBef>
                <a:spcPts val="499"/>
              </a:spcBef>
              <a:buClr>
                <a:srgbClr val="0087da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邮件杀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80000"/>
              </a:lnSpc>
              <a:spcBef>
                <a:spcPts val="499"/>
              </a:spcBef>
              <a:buClr>
                <a:srgbClr val="0087da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高效的邮件群发方式（邮件通信组功能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80000"/>
              </a:lnSpc>
              <a:spcBef>
                <a:spcPts val="499"/>
              </a:spcBef>
              <a:buClr>
                <a:srgbClr val="0087da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垃圾邮件隔离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80000"/>
              </a:lnSpc>
              <a:spcBef>
                <a:spcPts val="499"/>
              </a:spcBef>
              <a:buClr>
                <a:srgbClr val="0087da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邮件撤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80000"/>
              </a:lnSpc>
              <a:spcBef>
                <a:spcPts val="499"/>
              </a:spcBef>
              <a:buClr>
                <a:srgbClr val="0087da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微信绑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80000"/>
              </a:lnSpc>
              <a:spcBef>
                <a:spcPts val="499"/>
              </a:spcBef>
              <a:buClr>
                <a:srgbClr val="0087da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钉钉绑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80000"/>
              </a:lnSpc>
              <a:spcBef>
                <a:spcPts val="499"/>
              </a:spcBef>
              <a:buClr>
                <a:srgbClr val="0087da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短信通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80000"/>
              </a:lnSpc>
              <a:spcBef>
                <a:spcPts val="499"/>
              </a:spcBef>
              <a:buClr>
                <a:srgbClr val="0087da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Windows AD /LDAP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认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80000"/>
              </a:lnSpc>
              <a:spcBef>
                <a:spcPts val="499"/>
              </a:spcBef>
              <a:buClr>
                <a:srgbClr val="0087da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计划任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80000"/>
              </a:lnSpc>
              <a:spcBef>
                <a:spcPts val="499"/>
              </a:spcBef>
              <a:buClr>
                <a:srgbClr val="0087da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密码策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80000"/>
              </a:lnSpc>
              <a:spcBef>
                <a:spcPts val="499"/>
              </a:spcBef>
              <a:buClr>
                <a:srgbClr val="0087da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系统日志和统计控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80000"/>
              </a:lnSpc>
              <a:spcBef>
                <a:spcPts val="499"/>
              </a:spcBef>
              <a:buClr>
                <a:srgbClr val="0087da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Push Mail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功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80000"/>
              </a:lnSpc>
              <a:spcBef>
                <a:spcPts val="499"/>
              </a:spcBef>
              <a:buClr>
                <a:srgbClr val="0087da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邮件密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80000"/>
              </a:lnSpc>
              <a:spcBef>
                <a:spcPts val="400"/>
              </a:spcBef>
              <a:buClr>
                <a:srgbClr val="0087da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87d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643120" y="141120"/>
            <a:ext cx="63057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隶书"/>
              </a:rPr>
              <a:t>实用的特色功能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4920" y="856800"/>
            <a:ext cx="85341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87d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邮件杀毒</a:t>
            </a:r>
            <a:endParaRPr b="1" lang="en-US" sz="2000" spc="-1" strike="noStrike">
              <a:solidFill>
                <a:srgbClr val="6666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87d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邮件队列查毒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-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对发到本系统的和从本系统发出的邮件都会进行病毒检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87d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支持多种杀毒引擎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-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与操作系统上装的杀毒软件（支持几乎所有的杀毒引擎）进行整合，扫描往来邮件，有效的隔离清除带病毒邮件。推荐使用：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Mcafee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、诺顿、趋势、瑞星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87d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支持过滤指定的附件文件名、类型和附件个数过滤功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6" descr="virus"/>
          <p:cNvPicPr/>
          <p:nvPr/>
        </p:nvPicPr>
        <p:blipFill>
          <a:blip r:embed="rId1"/>
          <a:stretch/>
        </p:blipFill>
        <p:spPr>
          <a:xfrm>
            <a:off x="6786720" y="2428920"/>
            <a:ext cx="1908000" cy="3589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65" name="Picture 6" descr=""/>
          <p:cNvPicPr/>
          <p:nvPr/>
        </p:nvPicPr>
        <p:blipFill>
          <a:blip r:embed="rId2"/>
          <a:stretch/>
        </p:blipFill>
        <p:spPr>
          <a:xfrm>
            <a:off x="1332000" y="2781360"/>
            <a:ext cx="4032000" cy="37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643120" y="141120"/>
            <a:ext cx="63057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隶书"/>
              </a:rPr>
              <a:t>实用的特色功能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04560" y="856800"/>
            <a:ext cx="8839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87d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高效的邮件群发方式（邮件组功能） </a:t>
            </a:r>
            <a:endParaRPr b="1" lang="en-US" sz="2000" spc="-1" strike="noStrike">
              <a:solidFill>
                <a:srgbClr val="666666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管理员可以根据情况设置一些邮件组，系统会将发往邮件组的邮件自动分发给每个组成员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87d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组成员支持导入导出，方便组成员管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87d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多种发信权限设置，防止恶意用户乱发邮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87d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支持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Everyone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组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支持外部邮箱地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87d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支持多层级邮件组，实现树形企业通讯录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87d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系统通信组可以排序，系统通信组成员可以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7" descr=""/>
          <p:cNvPicPr/>
          <p:nvPr/>
        </p:nvPicPr>
        <p:blipFill>
          <a:blip r:embed="rId1"/>
          <a:stretch/>
        </p:blipFill>
        <p:spPr>
          <a:xfrm>
            <a:off x="5986440" y="1700280"/>
            <a:ext cx="2828880" cy="380052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7" descr=""/>
          <p:cNvPicPr/>
          <p:nvPr/>
        </p:nvPicPr>
        <p:blipFill>
          <a:blip r:embed="rId2"/>
          <a:stretch/>
        </p:blipFill>
        <p:spPr>
          <a:xfrm>
            <a:off x="1835280" y="3141720"/>
            <a:ext cx="3357360" cy="32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714400" y="141120"/>
            <a:ext cx="62341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背景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Rectangle 3"/>
          <p:cNvSpPr/>
          <p:nvPr/>
        </p:nvSpPr>
        <p:spPr>
          <a:xfrm>
            <a:off x="500040" y="1285920"/>
            <a:ext cx="812952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Winmail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邮件系统是由苏州华兆科技有限公司开发的中小型邮件系统。    本系统运行在 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Windows/Linux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操作系统下，完全满足中小型企业、大专院校、中小学校、集团组织、政府部门、事业单位、报社、外贸公司等单位自建邮件服务器要求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    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本系统功能全面、管理方便、性能稳定，同时支持中英文界面，是一个价格合理、高效、安全易用的 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Internet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邮件系统解决方案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643120" y="141120"/>
            <a:ext cx="63057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隶书"/>
              </a:rPr>
              <a:t>实用的特色功能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" name="Rectangle 3"/>
          <p:cNvSpPr/>
          <p:nvPr/>
        </p:nvSpPr>
        <p:spPr>
          <a:xfrm>
            <a:off x="304920" y="857160"/>
            <a:ext cx="883908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343080" indent="-343080">
              <a:lnSpc>
                <a:spcPct val="100000"/>
              </a:lnSpc>
              <a:spcBef>
                <a:spcPts val="499"/>
              </a:spcBef>
              <a:buClr>
                <a:srgbClr val="0087d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微软雅黑"/>
              </a:rPr>
              <a:t>垃圾邮件隔离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专用反垃圾邮件网关产品才具有的功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87d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被系统判断为垃圾邮件的可疑邮件可以设置放入隔离区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87d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用户可以在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Webmail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上查看隔离区邮件信息，进行重发被隔离邮件、加白名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87d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管理员可以在管理工具里查看隔离区邮件的摘要信息，重发被隔离邮件、加白名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87d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用户会收到隔离通知邮件，可在邮件里点击取回被隔离邮件，可设置通知邮件发送间隔时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87d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87d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87d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3" descr=""/>
          <p:cNvPicPr/>
          <p:nvPr/>
        </p:nvPicPr>
        <p:blipFill>
          <a:blip r:embed="rId1"/>
          <a:stretch/>
        </p:blipFill>
        <p:spPr>
          <a:xfrm>
            <a:off x="4951440" y="3645000"/>
            <a:ext cx="3543120" cy="24480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2" descr=""/>
          <p:cNvPicPr/>
          <p:nvPr/>
        </p:nvPicPr>
        <p:blipFill>
          <a:blip r:embed="rId2"/>
          <a:stretch/>
        </p:blipFill>
        <p:spPr>
          <a:xfrm>
            <a:off x="615960" y="3378240"/>
            <a:ext cx="38908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643120" y="141120"/>
            <a:ext cx="63057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实用的特色功能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	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285840" y="928800"/>
            <a:ext cx="853416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87d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邮件撤回</a:t>
            </a:r>
            <a:endParaRPr b="1" lang="en-US" sz="2000" spc="-1" strike="noStrike">
              <a:solidFill>
                <a:srgbClr val="6666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支持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Webmail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和 邮件客户端，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未读邮件才能撤回，有效减少工作失误，仅限发往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Winmail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系统的邮件。 在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Webmail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里操作撤回。</a:t>
            </a:r>
            <a:endParaRPr b="1" lang="en-US" sz="1600" spc="-1" strike="noStrike">
              <a:solidFill>
                <a:srgbClr val="6666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66666"/>
              </a:solidFill>
              <a:latin typeface="Verdana"/>
            </a:endParaRPr>
          </a:p>
        </p:txBody>
      </p:sp>
      <p:pic>
        <p:nvPicPr>
          <p:cNvPr id="376" name="Picture 6" descr=""/>
          <p:cNvPicPr/>
          <p:nvPr/>
        </p:nvPicPr>
        <p:blipFill>
          <a:blip r:embed="rId1"/>
          <a:stretch/>
        </p:blipFill>
        <p:spPr>
          <a:xfrm>
            <a:off x="933480" y="1920960"/>
            <a:ext cx="5430960" cy="234612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7" descr=""/>
          <p:cNvPicPr/>
          <p:nvPr/>
        </p:nvPicPr>
        <p:blipFill>
          <a:blip r:embed="rId2"/>
          <a:stretch/>
        </p:blipFill>
        <p:spPr>
          <a:xfrm>
            <a:off x="942840" y="4292640"/>
            <a:ext cx="384516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643120" y="141120"/>
            <a:ext cx="63057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实用的特色功能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	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4560" y="928440"/>
            <a:ext cx="526716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87d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微信绑定</a:t>
            </a:r>
            <a:endParaRPr b="1" lang="en-US" sz="2000" spc="-1" strike="noStrike">
              <a:solidFill>
                <a:srgbClr val="6666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支持与已认证微信服务号、企业微信绑定，可以实现新邮件微信实时提醒，微信里可以也定制邮件相关菜单项，微信中一键登录直接收发邮件，随时随地收发邮件。支持企业微信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APP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扫码登录。</a:t>
            </a:r>
            <a:endParaRPr b="1" lang="en-US" sz="1600" spc="-1" strike="noStrike">
              <a:solidFill>
                <a:srgbClr val="666666"/>
              </a:solidFill>
              <a:latin typeface="Verdana"/>
            </a:endParaRPr>
          </a:p>
        </p:txBody>
      </p:sp>
      <p:pic>
        <p:nvPicPr>
          <p:cNvPr id="380" name="Picture 7" descr=""/>
          <p:cNvPicPr/>
          <p:nvPr/>
        </p:nvPicPr>
        <p:blipFill>
          <a:blip r:embed="rId1"/>
          <a:stretch/>
        </p:blipFill>
        <p:spPr>
          <a:xfrm>
            <a:off x="5724360" y="1557360"/>
            <a:ext cx="2048040" cy="354312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8" descr=""/>
          <p:cNvPicPr/>
          <p:nvPr/>
        </p:nvPicPr>
        <p:blipFill>
          <a:blip r:embed="rId2"/>
          <a:stretch/>
        </p:blipFill>
        <p:spPr>
          <a:xfrm>
            <a:off x="1281240" y="2492280"/>
            <a:ext cx="4176720" cy="367344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7" descr=""/>
          <p:cNvPicPr/>
          <p:nvPr/>
        </p:nvPicPr>
        <p:blipFill>
          <a:blip r:embed="rId3"/>
          <a:stretch/>
        </p:blipFill>
        <p:spPr>
          <a:xfrm>
            <a:off x="1908000" y="981000"/>
            <a:ext cx="360360" cy="3193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8" descr=""/>
          <p:cNvPicPr/>
          <p:nvPr/>
        </p:nvPicPr>
        <p:blipFill>
          <a:blip r:embed="rId4"/>
          <a:stretch/>
        </p:blipFill>
        <p:spPr>
          <a:xfrm>
            <a:off x="6748560" y="2060640"/>
            <a:ext cx="2019240" cy="35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700000" y="141120"/>
            <a:ext cx="62485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实用的特色功能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	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Rectangle 3"/>
          <p:cNvSpPr/>
          <p:nvPr/>
        </p:nvSpPr>
        <p:spPr>
          <a:xfrm>
            <a:off x="304920" y="928800"/>
            <a:ext cx="5300640" cy="15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87d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阿里钉钉绑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支持与阿里钉钉企业帐号（认证或者未认证）绑定，在钉钉里自建邮件微应用，可以实现新邮件钉钉提醒；钉钉邮件微应用里可以免登录直接收发邮件。支持钉钉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扫码登录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5" descr=""/>
          <p:cNvPicPr/>
          <p:nvPr/>
        </p:nvPicPr>
        <p:blipFill>
          <a:blip r:embed="rId1"/>
          <a:stretch/>
        </p:blipFill>
        <p:spPr>
          <a:xfrm>
            <a:off x="2378160" y="961920"/>
            <a:ext cx="365040" cy="3636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6" descr=""/>
          <p:cNvPicPr/>
          <p:nvPr/>
        </p:nvPicPr>
        <p:blipFill>
          <a:blip r:embed="rId2"/>
          <a:stretch/>
        </p:blipFill>
        <p:spPr>
          <a:xfrm>
            <a:off x="1116000" y="2465280"/>
            <a:ext cx="4106880" cy="360216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7" descr=""/>
          <p:cNvPicPr/>
          <p:nvPr/>
        </p:nvPicPr>
        <p:blipFill>
          <a:blip r:embed="rId3"/>
          <a:stretch/>
        </p:blipFill>
        <p:spPr>
          <a:xfrm>
            <a:off x="5605560" y="1603440"/>
            <a:ext cx="2038320" cy="353376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8" descr=""/>
          <p:cNvPicPr/>
          <p:nvPr/>
        </p:nvPicPr>
        <p:blipFill>
          <a:blip r:embed="rId4"/>
          <a:stretch/>
        </p:blipFill>
        <p:spPr>
          <a:xfrm>
            <a:off x="6862680" y="2467080"/>
            <a:ext cx="197172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643120" y="141120"/>
            <a:ext cx="63057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实用的特色功能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	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Rectangle 3"/>
          <p:cNvSpPr/>
          <p:nvPr/>
        </p:nvSpPr>
        <p:spPr>
          <a:xfrm>
            <a:off x="304920" y="928800"/>
            <a:ext cx="52671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87d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短信通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支持短信提醒，有新邮件到达时，可在手机上获得通知。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mail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登录、重置密码和修改密码可要求短信验证，可实现双因素认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87d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采用网络短信通道方式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网络短信通道方式一般采用预付费方式，可以购买一定数量的短信，支持移动、联通和电信，不需注册多个账号。 目前支持的短信通道有：阿里云、腾讯云、网易云信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6" descr=""/>
          <p:cNvPicPr/>
          <p:nvPr/>
        </p:nvPicPr>
        <p:blipFill>
          <a:blip r:embed="rId1"/>
          <a:stretch/>
        </p:blipFill>
        <p:spPr>
          <a:xfrm>
            <a:off x="5559480" y="1197000"/>
            <a:ext cx="3330360" cy="36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2"/>
          <p:cNvSpPr/>
          <p:nvPr/>
        </p:nvSpPr>
        <p:spPr>
          <a:xfrm>
            <a:off x="2643120" y="141120"/>
            <a:ext cx="63057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实用的特色功能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3"/>
          <p:cNvSpPr/>
          <p:nvPr/>
        </p:nvSpPr>
        <p:spPr>
          <a:xfrm>
            <a:off x="304920" y="928800"/>
            <a:ext cx="8643960" cy="51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87d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二次认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双因子认证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FA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Factor Authentication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）是一种安全认证过程，需要用户提供两种不同类型的认证因子来表明自己的身份，包括密码、指纹、短信验证码、智能卡、生物识别等多种因素组合，从而提高用户账户的安全性和可靠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87d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Webmail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登录支持邮箱密码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+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手机短信验证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87d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Webmail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登录支持邮箱密码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+ TOTP  APP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动态口令验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87d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Webmail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登录支持邮箱密码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+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钉钉扫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87d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Webmail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登录支持邮箱密码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+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企业微信扫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87d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管理员登录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支持密码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+ TOTP  APP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动态口令验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手机上常用的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OTP A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    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谷歌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uthenticator       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微软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Microsoft Authentic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    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微信小程序 腾讯令牌（腾讯身份验证器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4" descr=""/>
          <p:cNvPicPr/>
          <p:nvPr/>
        </p:nvPicPr>
        <p:blipFill>
          <a:blip r:embed="rId1"/>
          <a:stretch/>
        </p:blipFill>
        <p:spPr>
          <a:xfrm>
            <a:off x="990720" y="5361120"/>
            <a:ext cx="266760" cy="2761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5" descr=""/>
          <p:cNvPicPr/>
          <p:nvPr/>
        </p:nvPicPr>
        <p:blipFill>
          <a:blip r:embed="rId2"/>
          <a:stretch/>
        </p:blipFill>
        <p:spPr>
          <a:xfrm>
            <a:off x="3156120" y="4788000"/>
            <a:ext cx="295200" cy="2854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6" descr=""/>
          <p:cNvPicPr/>
          <p:nvPr/>
        </p:nvPicPr>
        <p:blipFill>
          <a:blip r:embed="rId3"/>
          <a:stretch/>
        </p:blipFill>
        <p:spPr>
          <a:xfrm>
            <a:off x="971640" y="4811760"/>
            <a:ext cx="28584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643120" y="141120"/>
            <a:ext cx="63057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实用的特色功能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	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4560" y="928800"/>
            <a:ext cx="526716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87d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Windows AD /LDAP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认证</a:t>
            </a:r>
            <a:endParaRPr b="1" lang="en-US" sz="2000" spc="-1" strike="noStrike">
              <a:solidFill>
                <a:srgbClr val="6666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系统中的邮箱用户可以与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Windows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系统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AD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用户进行整合，收发的邮件的认证采用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AD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认证制进行认证，提高系统的安全性的，降低系统的维护的复杂性。 企业版支持自动同步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AD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中账户和组。旗舰版支持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LDAP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同步。</a:t>
            </a:r>
            <a:endParaRPr b="1" lang="en-US" sz="1600" spc="-1" strike="noStrike">
              <a:solidFill>
                <a:srgbClr val="6666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87d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Windows AD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域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LDAP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用户导入和同步</a:t>
            </a:r>
            <a:endParaRPr b="1" lang="en-US" sz="2000" spc="-1" strike="noStrike">
              <a:solidFill>
                <a:srgbClr val="6666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87d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将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Windows AD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域中的用户导入到邮件系统中</a:t>
            </a:r>
            <a:endParaRPr b="1" lang="en-US" sz="1600" spc="-1" strike="noStrike">
              <a:solidFill>
                <a:srgbClr val="6666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87d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定时同步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Windows AD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域下的用户到邮件系统中</a:t>
            </a:r>
            <a:endParaRPr b="1" lang="en-US" sz="1600" spc="-1" strike="noStrike">
              <a:solidFill>
                <a:srgbClr val="6666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66666"/>
              </a:solidFill>
              <a:latin typeface="Verdana"/>
            </a:endParaRPr>
          </a:p>
        </p:txBody>
      </p:sp>
      <p:pic>
        <p:nvPicPr>
          <p:cNvPr id="400" name="Picture 3" descr=""/>
          <p:cNvPicPr/>
          <p:nvPr/>
        </p:nvPicPr>
        <p:blipFill>
          <a:blip r:embed="rId1"/>
          <a:stretch/>
        </p:blipFill>
        <p:spPr>
          <a:xfrm>
            <a:off x="5578560" y="1006560"/>
            <a:ext cx="3309840" cy="32306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6" descr=""/>
          <p:cNvPicPr/>
          <p:nvPr/>
        </p:nvPicPr>
        <p:blipFill>
          <a:blip r:embed="rId2"/>
          <a:stretch/>
        </p:blipFill>
        <p:spPr>
          <a:xfrm>
            <a:off x="684360" y="3645000"/>
            <a:ext cx="3600360" cy="29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643120" y="141120"/>
            <a:ext cx="63057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实用的特色功能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	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56760" y="928800"/>
            <a:ext cx="7053480" cy="3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499"/>
              </a:spcBef>
              <a:buClr>
                <a:srgbClr val="0087d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计划任务功能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0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214200" y="1500120"/>
            <a:ext cx="3643560" cy="46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87d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管理员可以设置一些定时执行或者循环执行的任务（如：接收系统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POP3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邮件、收取用户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POP3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邮件）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87d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还可以设置定期清理用户指定邮件夹下的邮件，及处理长期不使用的邮箱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87d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计划任务可以指定用户执行，并可以设置排除特定用户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6" descr=""/>
          <p:cNvPicPr/>
          <p:nvPr/>
        </p:nvPicPr>
        <p:blipFill>
          <a:blip r:embed="rId1"/>
          <a:stretch/>
        </p:blipFill>
        <p:spPr>
          <a:xfrm>
            <a:off x="3760920" y="1127160"/>
            <a:ext cx="5151240" cy="49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643120" y="141120"/>
            <a:ext cx="63057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实用的特色功能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	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85840" y="890280"/>
            <a:ext cx="85341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87d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密码安全策略</a:t>
            </a:r>
            <a:endParaRPr b="1" lang="en-US" sz="2000" spc="-1" strike="noStrike">
              <a:solidFill>
                <a:srgbClr val="6666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支持密码安全策略，可以设定密码强度，支持定期改密码，可以设置下次登录必须修改密码。提供邮箱密码被猜解行为检测功能，提供邮箱被盗用转发垃圾邮件行为检测功能。支持异地登录提醒功能。</a:t>
            </a:r>
            <a:endParaRPr b="1" lang="en-US" sz="1600" spc="-1" strike="noStrike">
              <a:solidFill>
                <a:srgbClr val="666666"/>
              </a:solidFill>
              <a:latin typeface="Verdana"/>
            </a:endParaRPr>
          </a:p>
        </p:txBody>
      </p:sp>
      <p:pic>
        <p:nvPicPr>
          <p:cNvPr id="408" name="Picture 6" descr=""/>
          <p:cNvPicPr/>
          <p:nvPr/>
        </p:nvPicPr>
        <p:blipFill>
          <a:blip r:embed="rId1"/>
          <a:stretch/>
        </p:blipFill>
        <p:spPr>
          <a:xfrm>
            <a:off x="601560" y="2133720"/>
            <a:ext cx="4257720" cy="399708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7" descr=""/>
          <p:cNvPicPr/>
          <p:nvPr/>
        </p:nvPicPr>
        <p:blipFill>
          <a:blip r:embed="rId2"/>
          <a:stretch/>
        </p:blipFill>
        <p:spPr>
          <a:xfrm>
            <a:off x="5076720" y="2708280"/>
            <a:ext cx="39132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643120" y="141120"/>
            <a:ext cx="63057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实用的特色功能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	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285480" y="928800"/>
            <a:ext cx="700092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87d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系统日志和统计控制</a:t>
            </a:r>
            <a:endParaRPr b="1" lang="en-US" sz="2000" spc="-1" strike="noStrike">
              <a:solidFill>
                <a:srgbClr val="6666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87d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提供详细的系统运行日志，分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system(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系统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smtp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pop3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imap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queue(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队列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webmail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ftp(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网络磁盘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admin(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管理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)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，以便管理员能随时的了解系统运行情况或分析错误信息。 系统日志可以设置记录语言，支持简体、繁体、英文。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显示各系统服务流量统计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87d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可以记录用户邮箱访问记录、收信记录和发信记录，支持发信流量控制，可以设置系统、域、邮箱可以设置每小时和每日发信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4" descr=""/>
          <p:cNvPicPr/>
          <p:nvPr/>
        </p:nvPicPr>
        <p:blipFill>
          <a:blip r:embed="rId1"/>
          <a:stretch/>
        </p:blipFill>
        <p:spPr>
          <a:xfrm>
            <a:off x="7286760" y="857160"/>
            <a:ext cx="1724040" cy="3029040"/>
          </a:xfrm>
          <a:prstGeom prst="rect">
            <a:avLst/>
          </a:prstGeom>
          <a:ln w="0">
            <a:noFill/>
          </a:ln>
        </p:spPr>
      </p:pic>
      <p:pic>
        <p:nvPicPr>
          <p:cNvPr id="413" name="图片 7" descr="a44.png"/>
          <p:cNvPicPr/>
          <p:nvPr/>
        </p:nvPicPr>
        <p:blipFill>
          <a:blip r:embed="rId2"/>
          <a:stretch/>
        </p:blipFill>
        <p:spPr>
          <a:xfrm>
            <a:off x="611280" y="3357720"/>
            <a:ext cx="2592360" cy="17110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"/>
          <p:cNvPicPr/>
          <p:nvPr/>
        </p:nvPicPr>
        <p:blipFill>
          <a:blip r:embed="rId3"/>
          <a:stretch/>
        </p:blipFill>
        <p:spPr>
          <a:xfrm>
            <a:off x="622440" y="5068800"/>
            <a:ext cx="60814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700000" y="141120"/>
            <a:ext cx="62485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典型客户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Rectangle 3"/>
          <p:cNvSpPr/>
          <p:nvPr/>
        </p:nvSpPr>
        <p:spPr>
          <a:xfrm>
            <a:off x="500040" y="1285920"/>
            <a:ext cx="812952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200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1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月发布第一版 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Winmai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2025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月发布 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7.3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版本，大陆地区有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1000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多家正式客户，在海外也有销售，邮件应用是通用网络应用，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Winmail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客户分布很广，各地区、各行业都有。可以在百度上搜索一下 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Powered Winmail </a:t>
            </a:r>
            <a:r>
              <a:rPr b="0" lang="en-US" sz="1400" spc="-1" strike="noStrike">
                <a:solidFill>
                  <a:srgbClr val="005bd3"/>
                </a:solidFill>
                <a:latin typeface="宋体"/>
              </a:rPr>
              <a:t>2025,1 </a:t>
            </a:r>
            <a:r>
              <a:rPr b="0" lang="zh-CN" sz="1400" spc="-1" strike="noStrike">
                <a:solidFill>
                  <a:srgbClr val="005bd3"/>
                </a:solidFill>
                <a:latin typeface="宋体"/>
              </a:rPr>
              <a:t>显示有 </a:t>
            </a:r>
            <a:r>
              <a:rPr b="0" lang="en-US" sz="1400" spc="-1" strike="noStrike">
                <a:solidFill>
                  <a:srgbClr val="005bd3"/>
                </a:solidFill>
                <a:latin typeface="宋体"/>
              </a:rPr>
              <a:t>43,000</a:t>
            </a:r>
            <a:r>
              <a:rPr b="0" lang="zh-CN" sz="1400" spc="-1" strike="noStrike">
                <a:solidFill>
                  <a:srgbClr val="005bd3"/>
                </a:solidFill>
                <a:latin typeface="宋体"/>
              </a:rPr>
              <a:t>个相关结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部分成功案例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17bbfd"/>
                </a:solidFill>
                <a:uFillTx/>
                <a:latin typeface="Arial"/>
                <a:hlinkClick r:id="rId1"/>
              </a:rPr>
              <a:t>https://www.winmail.cn/success.ph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3"/>
          <p:cNvSpPr/>
          <p:nvPr/>
        </p:nvSpPr>
        <p:spPr>
          <a:xfrm>
            <a:off x="500040" y="928800"/>
            <a:ext cx="8501040" cy="28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87d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Push Mail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功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Winmail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目前支持邮件推送和发送，支持移动设备与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Winmail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邮箱邮件同步，支持联系人同步，也支持日历和任务同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目前支持的智能手机类型：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Phone/iPa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利用手机自带邮件软件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ndroid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安卓智能手机，利用手机自带邮件软件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643120" y="141120"/>
            <a:ext cx="63057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实用的特色功能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	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17" name="Picture 6" descr=""/>
          <p:cNvPicPr/>
          <p:nvPr/>
        </p:nvPicPr>
        <p:blipFill>
          <a:blip r:embed="rId1"/>
          <a:stretch/>
        </p:blipFill>
        <p:spPr>
          <a:xfrm>
            <a:off x="2630520" y="4149720"/>
            <a:ext cx="336240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3"/>
          <p:cNvSpPr/>
          <p:nvPr/>
        </p:nvSpPr>
        <p:spPr>
          <a:xfrm>
            <a:off x="500040" y="928800"/>
            <a:ext cx="8501040" cy="28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343080" indent="-343080">
              <a:lnSpc>
                <a:spcPct val="100000"/>
              </a:lnSpc>
              <a:spcBef>
                <a:spcPts val="499"/>
              </a:spcBef>
              <a:buClr>
                <a:srgbClr val="0087d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邮件密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可对邮件和用户分别设置密级属性，包括：普通（无密级） 、 限制、秘密、 机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发件人只能发送自己密级或以下密级的邮件，例如机密等级用户可以发普通、限制、秘密、机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种类型的邮件，秘密只能发普通、限制和秘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种类型的邮件。 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收件人的密级要等于或者高于邮件密级，低于邮件密级系统后台做阻断控制和提示。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643120" y="141120"/>
            <a:ext cx="63057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实用的特色功能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	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20" name="Picture 2" descr=""/>
          <p:cNvPicPr/>
          <p:nvPr/>
        </p:nvPicPr>
        <p:blipFill>
          <a:blip r:embed="rId1"/>
          <a:stretch/>
        </p:blipFill>
        <p:spPr>
          <a:xfrm>
            <a:off x="1116000" y="3500280"/>
            <a:ext cx="5759640" cy="26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3"/>
          <p:cNvSpPr/>
          <p:nvPr/>
        </p:nvSpPr>
        <p:spPr>
          <a:xfrm>
            <a:off x="500040" y="928800"/>
            <a:ext cx="8501040" cy="52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mail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标准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永久使用，标准版功能，包含一年的技术服务和升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mail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企业版：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永久使用，企业版功能，包含三年的技术服务和升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nmail Pro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专业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永久使用，专业版功能，包含一年的技术服务和升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mail Pro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旗舰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永久使用，旗舰功能，服务期看购买情况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标准版、企业版只支持在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平台上运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专业版、旗舰版只支持在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ux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平台上运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具体功能区别：</a:t>
            </a:r>
            <a:r>
              <a:rPr b="0" lang="en-US" sz="1800" spc="-1" strike="noStrike" u="sng">
                <a:solidFill>
                  <a:srgbClr val="17bbfd"/>
                </a:solidFill>
                <a:uFillTx/>
                <a:latin typeface="Arial"/>
                <a:hlinkClick r:id="rId1"/>
              </a:rPr>
              <a:t>https://www.winmail.cn/edition.p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643120" y="141120"/>
            <a:ext cx="63057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版本类型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643120" y="141120"/>
            <a:ext cx="63057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为什么要建立自己的邮件系统？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178920" y="1413000"/>
            <a:ext cx="453708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7d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相对免费电子邮件</a:t>
            </a: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87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自有服务器，邮件数据更安全</a:t>
            </a:r>
            <a:endParaRPr b="1" lang="en-US" sz="1600" spc="-1" strike="noStrike">
              <a:solidFill>
                <a:srgbClr val="6666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87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避免员工使用私人电子邮件办公，离职后带走客户资源</a:t>
            </a:r>
            <a:endParaRPr b="1" lang="en-US" sz="1600" spc="-1" strike="noStrike">
              <a:solidFill>
                <a:srgbClr val="6666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87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使用公司统一域名的邮箱，树立公司形象，让每个员工都有如：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name@ourcompany.com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的邮件地址</a:t>
            </a:r>
            <a:endParaRPr b="1" lang="en-US" sz="1600" spc="-1" strike="noStrike">
              <a:solidFill>
                <a:srgbClr val="666666"/>
              </a:solidFill>
              <a:latin typeface="Verdan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648320" y="1413000"/>
            <a:ext cx="438768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7d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相对企业邮件</a:t>
            </a: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7d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87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管理方便，功能全面，数据备份、分配空间、设置邮箱监控不受服务商限制</a:t>
            </a:r>
            <a:endParaRPr b="1" lang="en-US" sz="1600" spc="-1" strike="noStrike">
              <a:solidFill>
                <a:srgbClr val="6666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87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数据安全有保障，企业和组织的关键邮件信息放在服务商系统里存在安全隐患</a:t>
            </a:r>
            <a:endParaRPr b="1" lang="en-US" sz="1600" spc="-1" strike="noStrike">
              <a:solidFill>
                <a:srgbClr val="6666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87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邮件服务器能自动接收公网的邮件，不会造成邮件过多而占用了资源，影响新邮件接收          </a:t>
            </a:r>
            <a:endParaRPr b="1" lang="en-US" sz="1600" spc="-1" strike="noStrike">
              <a:solidFill>
                <a:srgbClr val="6666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87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Winmail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价格比企业邮局一年的服务费低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并且企业邮局需要每年交费</a:t>
            </a:r>
            <a:endParaRPr b="1" lang="en-US" sz="1600" spc="-1" strike="noStrike">
              <a:solidFill>
                <a:srgbClr val="6666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87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Winmail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软件本身使用比较简单，可以不需要高级的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IT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管理人员来维护</a:t>
            </a:r>
            <a:endParaRPr b="1" lang="en-US" sz="1600" spc="-1" strike="noStrike">
              <a:solidFill>
                <a:srgbClr val="6666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87d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方便与其他系统整合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: OA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、微信、钉钉 </a:t>
            </a:r>
            <a:endParaRPr b="1" lang="en-US" sz="1600" spc="-1" strike="noStrike">
              <a:solidFill>
                <a:srgbClr val="6666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6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714400" y="141120"/>
            <a:ext cx="62341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运行平台及语言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Rectangle 3"/>
          <p:cNvSpPr/>
          <p:nvPr/>
        </p:nvSpPr>
        <p:spPr>
          <a:xfrm>
            <a:off x="285840" y="1484280"/>
            <a:ext cx="85341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87d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Arial"/>
              </a:rPr>
              <a:t>服务器系统平台：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Arial"/>
              </a:rPr>
              <a:t>Win7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Arial"/>
              </a:rPr>
              <a:t>以上全部的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Arial"/>
              </a:rPr>
              <a:t>32/6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Arial"/>
              </a:rPr>
              <a:t>位的中英文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Arial"/>
              </a:rPr>
              <a:t>Windows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Arial"/>
              </a:rPr>
              <a:t>系统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Arial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Arial"/>
              </a:rPr>
              <a:t>包括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Arial"/>
              </a:rPr>
              <a:t>Windows 2025)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Arial"/>
              </a:rPr>
              <a:t>，提供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Arial"/>
              </a:rPr>
              <a:t>6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Arial"/>
              </a:rPr>
              <a:t>位安装包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Arial"/>
              </a:rPr>
              <a:t>; CentOS 7/8/9 x86_64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Arial"/>
              </a:rPr>
              <a:t>等多种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Arial"/>
              </a:rPr>
              <a:t>Linux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Arial"/>
              </a:rPr>
              <a:t>系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87d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Arial"/>
              </a:rPr>
              <a:t>标准邮件客户端：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Arial"/>
              </a:rPr>
              <a:t>Office Outlook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Arial"/>
              </a:rPr>
              <a:t>、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Arial"/>
              </a:rPr>
              <a:t>Foxmail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Arial"/>
              </a:rPr>
              <a:t>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87d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Arial"/>
              </a:rPr>
              <a:t>浏览器：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Arial"/>
              </a:rPr>
              <a:t>IE 11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Arial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Arial"/>
              </a:rPr>
              <a:t>Chrome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Arial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Arial"/>
              </a:rPr>
              <a:t>Edge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Arial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Arial"/>
              </a:rPr>
              <a:t>Safari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Arial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Arial"/>
              </a:rPr>
              <a:t>Firefox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Arial"/>
              </a:rPr>
              <a:t>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87d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Arial"/>
              </a:rPr>
              <a:t>客户端系统：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Arial"/>
              </a:rPr>
              <a:t>Windows, Linux, MacOS, iOS, Android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Arial"/>
              </a:rPr>
              <a:t>等设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87d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Arial"/>
              </a:rPr>
              <a:t>界面语言：英语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Arial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Arial"/>
              </a:rPr>
              <a:t>简体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Arial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Arial"/>
              </a:rPr>
              <a:t>繁体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Arial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Arial"/>
              </a:rPr>
              <a:t>日语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Arial"/>
              </a:rPr>
              <a:t>(webmail)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Arial"/>
              </a:rPr>
              <a:t>韩语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Arial"/>
              </a:rPr>
              <a:t>(webmail)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Arial"/>
              </a:rPr>
              <a:t>德语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Arial"/>
              </a:rPr>
              <a:t>(webmail)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Arial"/>
              </a:rPr>
              <a:t>瑞典语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Arial"/>
              </a:rPr>
              <a:t>(webmail)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Arial"/>
              </a:rPr>
              <a:t>挪威语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Arial"/>
              </a:rPr>
              <a:t>(webmail)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Arial"/>
              </a:rPr>
              <a:t>丹麦语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Arial"/>
              </a:rPr>
              <a:t>(webmail)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Arial"/>
              </a:rPr>
              <a:t>希腊语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Arial"/>
              </a:rPr>
              <a:t>(webmail)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Arial"/>
              </a:rPr>
              <a:t>俄语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Arial"/>
              </a:rPr>
              <a:t>(webmail)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Arial"/>
              </a:rPr>
              <a:t>葡萄牙语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Arial"/>
              </a:rPr>
              <a:t>(webmail)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Arial"/>
              </a:rPr>
              <a:t>法语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Arial"/>
              </a:rPr>
              <a:t>(webmail)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Arial"/>
              </a:rPr>
              <a:t>意大利语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Arial"/>
              </a:rPr>
              <a:t>(webmail)/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Arial"/>
              </a:rPr>
              <a:t>荷兰语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Arial"/>
              </a:rPr>
              <a:t>(webmai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87d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邮件核心和管理端工具开发语言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C++ /GNU C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87d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mail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开发语言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P8, Java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87d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认证信息和配置数据库：本地数据文件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MySQL ,PostgresSQL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武汉达梦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87d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7d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714400" y="141120"/>
            <a:ext cx="62341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系统主要功能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Rectangle 1027"/>
          <p:cNvSpPr/>
          <p:nvPr/>
        </p:nvSpPr>
        <p:spPr>
          <a:xfrm>
            <a:off x="611280" y="1557360"/>
            <a:ext cx="7772400" cy="45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87d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功能全面，支持多种标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87d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强大的垃圾邮件过滤和隔离区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87d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功能全面的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Webmail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服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87d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专用手机邮件客户端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87d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网络助理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87d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邮件签核与监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87d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谨的账号和权限管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87d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系统邮件归档和查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87d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系统备份和恢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87d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87d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87d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87d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87d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87d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304560" y="890640"/>
            <a:ext cx="8839080" cy="49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87d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功能全面，支持多种标准</a:t>
            </a:r>
            <a:endParaRPr b="1" lang="en-US" sz="2000" spc="-1" strike="noStrike">
              <a:solidFill>
                <a:srgbClr val="666666"/>
              </a:solidFill>
              <a:latin typeface="Verdana"/>
            </a:endParaRPr>
          </a:p>
          <a:p>
            <a:pPr lvl="1" marL="713160" indent="-274320">
              <a:lnSpc>
                <a:spcPct val="100000"/>
              </a:lnSpc>
              <a:spcBef>
                <a:spcPts val="400"/>
              </a:spcBef>
              <a:buClr>
                <a:srgbClr val="0087d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支持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SMTP/ESMTP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POP3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IMAP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SSL/TLS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加密通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400"/>
              </a:spcBef>
              <a:buClr>
                <a:srgbClr val="0087d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支持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Webmail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LDAP(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公共地址簿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FTP(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网络磁盘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400"/>
              </a:spcBef>
              <a:buClr>
                <a:srgbClr val="0087d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支持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Outlook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Foxmail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和 浏览器等多种方式收发邮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400"/>
              </a:spcBef>
              <a:buClr>
                <a:srgbClr val="0087d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支持多域名和域别名、邮箱别名和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Catch ALL(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无限别名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400"/>
              </a:spcBef>
              <a:buClr>
                <a:srgbClr val="0087d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支持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IMAP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公共邮件夹，方便企业共享信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400"/>
              </a:spcBef>
              <a:buClr>
                <a:srgbClr val="0087d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支持中继转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400"/>
              </a:spcBef>
              <a:buClr>
                <a:srgbClr val="0087d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退信内容可读性，退信里增加中文解释和处理建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400"/>
              </a:spcBef>
              <a:buClr>
                <a:srgbClr val="0087d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支持与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Windows AD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域服务器的活动目录账号、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LDAP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进行整合，方便管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400"/>
              </a:spcBef>
              <a:buClr>
                <a:srgbClr val="0087d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支持邮件撤回，有效减少工作失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400"/>
              </a:spcBef>
              <a:buClr>
                <a:srgbClr val="0087d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支持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S/MIME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，邮件加密和签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400"/>
              </a:spcBef>
              <a:buClr>
                <a:srgbClr val="0087d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支持邮箱代理功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400"/>
              </a:spcBef>
              <a:buClr>
                <a:srgbClr val="0087d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支持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Push Mail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，智能手机和移动设备可以同步邮件、地址簿、行事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400"/>
              </a:spcBef>
              <a:buClr>
                <a:srgbClr val="0087d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支持短信提醒、微信绑定、钉钉绑定，有新邮件到达时，可以在手机上获得通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400"/>
              </a:spcBef>
              <a:buClr>
                <a:srgbClr val="0087d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支持二次开发接口功能，可以方便的与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OA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CRM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等软件整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400"/>
              </a:spcBef>
              <a:buClr>
                <a:srgbClr val="0087d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支持分布式安装，可实现负载均衡架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400"/>
              </a:spcBef>
              <a:buClr>
                <a:srgbClr val="0087d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支持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IPv6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网络，可设置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IPv6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优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标题 1"/>
          <p:cNvSpPr/>
          <p:nvPr/>
        </p:nvSpPr>
        <p:spPr>
          <a:xfrm>
            <a:off x="2714760" y="141120"/>
            <a:ext cx="6234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系统主要功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304920" y="914400"/>
            <a:ext cx="8534160" cy="53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87d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强大的垃圾邮件过滤和智能侦测</a:t>
            </a:r>
            <a:endParaRPr b="1" lang="en-US" sz="2000" spc="-1" strike="noStrike">
              <a:solidFill>
                <a:srgbClr val="666666"/>
              </a:solidFill>
              <a:latin typeface="Verdana"/>
            </a:endParaRPr>
          </a:p>
          <a:p>
            <a:pPr lvl="1" marL="735480" indent="-282960">
              <a:lnSpc>
                <a:spcPct val="100000"/>
              </a:lnSpc>
              <a:spcBef>
                <a:spcPts val="349"/>
              </a:spcBef>
              <a:buClr>
                <a:srgbClr val="0087d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支持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SMTP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发信认证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（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ESMTP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0087d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支持系统级和用户级的发件人、收件人、主题、信头、邮件内容等邮件过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0087d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实时的智能检测，发信频率限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0087d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支持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 /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发件人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收件人黑名单和白名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0087d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支持域名反查，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反向解析，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LO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主机名检查，阻止虚假路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0087d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支持灰名单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(Greylisting)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反垃圾功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0087d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支持白名单和识别虚假信头，支持内嵌图片里文字和二维码识别过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0087d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支持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RBL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（实时黑名单）过滤检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0087d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支持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SPF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检查，防止伪造邮件地址发送垃圾邮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0087d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用户级过滤整合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</a:rPr>
              <a:t>SpamAssassin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实现智能化自学习过滤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0087d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支持垃圾邮件规则库在线更新功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0087d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SPF(Sender Policy Framework)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检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0087d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支持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DKIM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过滤和签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0087d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支持隔离区功能，用户和管理员可以取回和设置白名单，用户定时收到通知邮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0087d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邮箱密码被猜解和邮箱被盗用转发垃圾邮件行为检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0087d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查杀率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95%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标题 1"/>
          <p:cNvSpPr/>
          <p:nvPr/>
        </p:nvSpPr>
        <p:spPr>
          <a:xfrm>
            <a:off x="2714760" y="141120"/>
            <a:ext cx="6234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系统主要功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3"/>
          <p:cNvSpPr/>
          <p:nvPr/>
        </p:nvSpPr>
        <p:spPr>
          <a:xfrm>
            <a:off x="304920" y="890640"/>
            <a:ext cx="883908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87d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功能全面的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Webmail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服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87d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支持多种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Webmail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风格，可以自由切换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87d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强大的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ML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邮件编辑，内嵌图片，表格制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87d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多语言支持：英语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中文（简体）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中文（繁体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)/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日语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韩语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德语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瑞典语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87d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支持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Winmail App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扫码登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87d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可以通过网络磁盘共享链接发送超大附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87d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支持个人地址簿，系统通讯组，公共地址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87d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支持个人签名档，外部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POP3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邮箱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87d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支持移动设备专用的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Webmail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风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87d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支持邮件标签分类，邮件搜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87d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支持自动转发、自动回复设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87d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全面支持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UTF-8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，防止邮件乱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87d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可以在线注册新用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87d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87d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标题 1"/>
          <p:cNvSpPr/>
          <p:nvPr/>
        </p:nvSpPr>
        <p:spPr>
          <a:xfrm>
            <a:off x="2714760" y="141120"/>
            <a:ext cx="6234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系统主要功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6" descr=""/>
          <p:cNvPicPr/>
          <p:nvPr/>
        </p:nvPicPr>
        <p:blipFill>
          <a:blip r:embed="rId1"/>
          <a:stretch/>
        </p:blipFill>
        <p:spPr>
          <a:xfrm>
            <a:off x="1187280" y="4756320"/>
            <a:ext cx="2664000" cy="169704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7" descr=""/>
          <p:cNvPicPr/>
          <p:nvPr/>
        </p:nvPicPr>
        <p:blipFill>
          <a:blip r:embed="rId2"/>
          <a:stretch/>
        </p:blipFill>
        <p:spPr>
          <a:xfrm>
            <a:off x="4724280" y="3179880"/>
            <a:ext cx="3951360" cy="30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7T03:51:39Z</dcterms:created>
  <dc:creator>winmail</dc:creator>
  <dc:description/>
  <dc:language>en-US</dc:language>
  <cp:lastModifiedBy>苏州华兆科技有限公司</cp:lastModifiedBy>
  <dcterms:modified xsi:type="dcterms:W3CDTF">2025-03-19T08:36:07Z</dcterms:modified>
  <cp:revision>445</cp:revision>
  <dc:subject/>
  <dc:title>Winmail邮件系统介绍</dc:title>
</cp:coreProperties>
</file>